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D5F1779-732C-4D4F-8844-73D7EAAC47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1160" y="703440"/>
            <a:ext cx="4622760" cy="34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     </a:t>
            </a: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IT sissejuhatus loeng 7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5703C92-8BB8-4D4F-8FF6-F02535F9F545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languages are essentia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refo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of the essence in computer scienc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ing languages, in the familiar sens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scription languages, design patterns, architecture languages, specification languag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ähedane ja ebamugav:  Fortran, C  (portaabel assembler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straktsem ja mugavam:  Lisp, Ada, ML, Java, Python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keeled (SQL, RDQL, .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junduskeeled (HTML, PS, 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fitseerimiskeeled (loogikakeeled, UML, ..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 silmas, e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arvuti suudab täita ainult masinkoodis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lemas kaks põhivarianti keeles X programmi täitmi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de: C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 ja asub seda rida-realt täitma. Näide: vana BASIC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romissvaria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w="9360">
            <a:solidFill>
              <a:srgbClr val="000004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96680" y="873000"/>
            <a:ext cx="5748840" cy="4911840"/>
            <a:chOff x="1696680" y="873000"/>
            <a:chExt cx="5748840" cy="4911840"/>
          </a:xfrm>
        </p:grpSpPr>
        <p:sp>
          <p:nvSpPr>
            <p:cNvPr id="141" name=""/>
            <p:cNvSpPr/>
            <p:nvPr/>
          </p:nvSpPr>
          <p:spPr>
            <a:xfrm>
              <a:off x="16966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09640" y="2279520"/>
              <a:ext cx="1067040" cy="533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7640" y="1482840"/>
              <a:ext cx="106668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43160" y="1371600"/>
              <a:ext cx="144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795760" y="1936800"/>
              <a:ext cx="44100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852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628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1080" y="2168640"/>
              <a:ext cx="5173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8400" y="2778120"/>
              <a:ext cx="9954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57760" y="3200400"/>
              <a:ext cx="1440" cy="4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7760" y="4191120"/>
              <a:ext cx="1440" cy="83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6680" y="5022720"/>
              <a:ext cx="4343400" cy="762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216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0240" y="1371600"/>
              <a:ext cx="1800" cy="90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96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3520" y="2298960"/>
              <a:ext cx="1872000" cy="494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218200" y="2895480"/>
              <a:ext cx="76176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94680" y="3268800"/>
              <a:ext cx="2126520" cy="129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52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560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404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636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5516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98880" y="2435400"/>
            <a:ext cx="673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208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2160" y="717480"/>
            <a:ext cx="185544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4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, char etc (näiteks: 1 ja –3 on int-id, ‘c’ ja ‘a’ on char-i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 (näiteks “aaa123bb”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siiv  (näiteks a[1]=2; a[2]=20; a[3]=15;  y=2; x=a[y]+a[1]+3;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 x = (y*2) – (5+x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k:  if ... then ... el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kel:   while(x&lt;10)  x=x+1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:  int kuup(int x) { return x * x * x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:  x = kuup(1+kuup(3))+kuup(y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rekursiivsel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: protsessor ja assemb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: põhiideed, nä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che ja mäluhierarh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2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Scheme, Pyth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 The CPU-Memory Ga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28600" y="1371600"/>
          <a:ext cx="10871280" cy="70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0871280" cy="70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57200" y="930240"/>
            <a:ext cx="8167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The gap widens between DRAM, disk, and CPU sp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1364760" y="1371600"/>
            <a:ext cx="2984760" cy="502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336560" y="1364760"/>
            <a:ext cx="2984760" cy="5270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65520" y="914400"/>
            <a:ext cx="1384560" cy="4572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16002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022360" y="22860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9560" y="29718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165360" y="43434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308360" y="6172200"/>
            <a:ext cx="1155960" cy="2286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w="3672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299520"/>
            <a:ext cx="7770960" cy="311400"/>
            <a:chOff x="914400" y="299520"/>
            <a:chExt cx="7770960" cy="311400"/>
          </a:xfrm>
        </p:grpSpPr>
        <p:sp>
          <p:nvSpPr>
            <p:cNvPr id="63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3560" y="299520"/>
              <a:ext cx="180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5200"/>
            <a:ext cx="7772400" cy="317520"/>
            <a:chOff x="914400" y="295200"/>
            <a:chExt cx="7772400" cy="31752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2952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058840" y="1922400"/>
            <a:ext cx="6856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955880"/>
            <a:ext cx="1828800" cy="375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 Is About Programming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ow to build system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etter, faster, cheaper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iable, maintainable, extensib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valuating and comparing system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erformance, behavior, secur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liance, usabil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can and can’t be do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orithms and complexity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is linguistic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ng is an </a:t>
            </a:r>
            <a:r>
              <a:rPr b="1" lang="en-GB" sz="1800" spc="-1" strike="noStrike">
                <a:solidFill>
                  <a:srgbClr val="280099"/>
                </a:solidFill>
                <a:latin typeface="Bitstream Vera Sans"/>
              </a:rPr>
              <a:t>explanator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tivit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yourself, now and in the futur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whoever has to read your cod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he compiler, which has to make it run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planations requi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state clearly what is going on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communicate ideas over space and tim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